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9DFD1-FC54-4218-871B-E91AD8D2F0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7A5DB-E091-4B10-B167-8CE3AD531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6DB3B-D738-4736-8F23-486BA9C4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08815-3CE6-496B-8CF2-842F1F92F0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8D5CF-BCFA-415A-A86A-8F12C3913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4488B-00A5-4CA2-BC7D-0B5B51F1F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3D80C-FBBD-4E9A-81D5-97F0D6821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FEDF6-7631-4B99-AD74-9605EC65E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44283-5E5E-46B7-82F7-D7C4FD52D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59BBD-E267-4793-BA26-57D529CDE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D50D0-B3D9-4ECC-BFDE-49C6E4042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4523B-63FD-4CCA-B38A-60611F15A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274B0-47B1-4499-98A4-DAAD65F83EB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79930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db523"/>
                </a:solidFill>
                <a:latin typeface="Verdana"/>
              </a:rPr>
              <a:t>第二十九章  甲状腺激素与</a:t>
            </a: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宋体"/>
              </a:rPr>
              <a:t> </a:t>
            </a:r>
            <a:br>
              <a:rPr sz="4800"/>
            </a:b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宋体"/>
              </a:rPr>
              <a:t>                 </a:t>
            </a:r>
            <a:r>
              <a:rPr b="1" lang="en-US" sz="4800" spc="-1" strike="noStrike">
                <a:solidFill>
                  <a:srgbClr val="ddb523"/>
                </a:solidFill>
                <a:latin typeface="Verdana"/>
              </a:rPr>
              <a:t>抗甲状腺药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44360" y="117360"/>
            <a:ext cx="754380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硫脲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240" y="167652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硫氧嘧啶类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(thiouracils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甲硫氧嘧啶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丙硫氧嘧啶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咪唑类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(imidazoles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甲巯咪唑（他巴唑）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卡比马唑（甲亢平）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2720" y="-166680"/>
            <a:ext cx="6051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体内过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7640" y="1272960"/>
            <a:ext cx="9001080" cy="52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口服易吸收，生物利用度 约为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80%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血浆蛋白结合率约为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75%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Times New Roman"/>
              </a:rPr>
              <a:t>1/2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: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硫氧嘧啶类为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小时，甲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</a:rPr>
              <a:t>巯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咪唑为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6~13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小时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主要在肝代谢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易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通过胎盘、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可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进入乳汁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妊娠和哺乳期应注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3640" y="43920"/>
            <a:ext cx="826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药理作用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及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8000" y="1270080"/>
            <a:ext cx="86551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抑制甲状腺激素合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抑制过氧化物酶，抑制酪氨酸的碘化和耦联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对已经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合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成的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激素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无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抑制外周组织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转化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</a:rPr>
              <a:t>3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免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抑制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</a:t>
            </a:r>
            <a:endParaRPr b="1" lang="en-US" sz="1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使血中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TSI(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甲状腺刺激性免疫球蛋白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含量下降 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17360"/>
            <a:ext cx="604836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80720" y="1412640"/>
            <a:ext cx="896292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甲亢内科保守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轻症、不宜手术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及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放射性碘治疗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</a:rPr>
              <a:t>的患者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开始大剂量，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个月后视病情减量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甲状腺术前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使甲状腺功能控制正常，以便手术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使甲状腺增生充血，术前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周加服碘剂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甲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亢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危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-165240"/>
            <a:ext cx="754524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6720" y="1269720"/>
            <a:ext cx="7756560" cy="36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过敏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消化道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粒细胞缺乏症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最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严重不良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甲状腺肿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大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肝损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000" y="190080"/>
            <a:ext cx="75438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二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碘和碘化物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    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</a:rPr>
              <a:t>(KI, NaI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</a:rPr>
              <a:t>及复方碘溶液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1701720"/>
            <a:ext cx="8713800" cy="34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药理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小剂量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→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治疗单纯性甲状腺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大剂量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抑制蛋白水解酶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抑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</a:rPr>
              <a:t>3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释放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拮抗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TSH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促进腺体增生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腺体缩小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变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                              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血管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网减少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312408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7640" y="909720"/>
            <a:ext cx="90025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单纯性甲状腺肿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甲亢术前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甲亢危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合用硫脲类，危象消除即停药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48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过敏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Arial"/>
              </a:rPr>
              <a:t>血管神经性水肿、喉头水肿</a:t>
            </a: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、发热等。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慢性碘中毒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诱发甲状腺功能紊乱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三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放射性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99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药理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辐射（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β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射线等）损伤甲状腺实质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甲状腺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功能诊断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   ①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甲亢时摄碘率高，摄碘高峰时间前移；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   ②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甲减时摄碘率低，摄碘高峰时间移后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甲状腺功能亢进治疗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四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β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肾上腺素受体阻断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929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药理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控制交感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肾上腺素系统兴奋所致症状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①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β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受体阻断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心率下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②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中枢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β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受体阻断 – 减轻焦虑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③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阻断外周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NA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能神经末梢突触前膜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β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</a:rPr>
              <a:t>2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受体，减少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NA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释放，适当减少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</a:rPr>
              <a:t>3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分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甲亢、甲亢危象辅助治疗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甲亢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术前准备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836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掌握：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硫脲类药物的药理作用、临床应用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熟悉：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甲状腺激素的生理作用、临床应用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了解：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碘和碘化物、放射性碘的药理作用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临床应用和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63280" y="404280"/>
            <a:ext cx="5545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甲状腺激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2720" y="2060280"/>
            <a:ext cx="8531280" cy="37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维持机体正常代谢、促进生长发育所必需的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甲状腺激素包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甲状腺素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  Thyroxin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三碘甲状腺原氨酸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 triiodothyroxin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0600" y="333000"/>
            <a:ext cx="90680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甲状腺激素的合成、贮存、分泌与调节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6720" y="1342800"/>
            <a:ext cx="85694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碘的摄取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碘泵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甲状腺腺泡细胞主动摄碘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、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浓集碘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甲状腺中碘化物浓度为血中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25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倍，甲状腺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</a:rPr>
              <a:t>功能亢进时为血中的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250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倍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合成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过氧化酶 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 活性碘 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+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甲状腺球蛋白酪氨酸残基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MIT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、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DIT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过氧化酶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 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DIT + MIT 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T</a:t>
            </a:r>
            <a:r>
              <a:rPr b="0" lang="en-US" sz="24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 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DIT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+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DIT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T</a:t>
            </a:r>
            <a:r>
              <a:rPr b="1" lang="en-US" sz="24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贮存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与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TG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分泌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 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蛋白水解酶水解</a:t>
            </a:r>
            <a:r>
              <a:rPr b="1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TG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释放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调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下丘脑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TRH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垂体前叶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TSH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、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合成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                                                      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甲状腺增生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44360" y="18864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体内过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40" y="1269720"/>
            <a:ext cx="91425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生物利用度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：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为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90%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~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95%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为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50%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~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75%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血浆蛋白结合率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：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高达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99%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以上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与蛋白质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          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亲和力低于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，其游离量为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的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10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作用快而强，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作用慢而弱，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但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维持时间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Times New Roman"/>
              </a:rPr>
              <a:t>1/2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1" lang="zh-CN" sz="32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1~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天，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1" lang="zh-CN" sz="32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代谢：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主要在肝、肾线粒体脱碘，与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葡萄糖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      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酸或硫酸结合而排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可通过胎盘、进入乳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5840" y="188640"/>
            <a:ext cx="408960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三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药理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作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6720" y="1371600"/>
            <a:ext cx="829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维持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正常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生长发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甲状腺激素分泌不足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→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呆小症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(cretinism)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                 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</a:rPr>
              <a:t>黏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液性水肿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促进代谢和增加产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促进物质代谢，增加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BMR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，产热增加；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提高交感 – 肾上腺系统的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反应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性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对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CA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反应性增加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神经过敏、震颤、心跳加快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血压升高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9041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临床应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6360" y="1486080"/>
            <a:ext cx="8518680" cy="44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甲状腺功能减退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呆小病：重在预防和及早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黏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液性水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从小量开始，逐渐增大至足量避免诱发心血管疾病 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垂体功能低下时宜先用皮质激素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否则可导致急性肾上腺皮质功能不全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单纯性甲状腺肿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T</a:t>
            </a:r>
            <a:r>
              <a:rPr b="1" lang="en-US" sz="36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抑制试验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6360" y="304560"/>
            <a:ext cx="8518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五、不良反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过量引起心悸、多汗、失眠、发热等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心绞痛、心力衰竭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5640" y="44280"/>
            <a:ext cx="777240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第二节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抗甲状腺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en-US" sz="3600" spc="-1" strike="noStrike">
                <a:solidFill>
                  <a:srgbClr val="046ca6"/>
                </a:solidFill>
                <a:latin typeface="Times New Roman"/>
              </a:rPr>
              <a:t>抗甲状腺药</a:t>
            </a: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宋体"/>
              </a:rPr>
              <a:t>物种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硫脲类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碘化物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放射性碘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l-GR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β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受体阻断剂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xm</cp:lastModifiedBy>
  <dcterms:modified xsi:type="dcterms:W3CDTF">2016-03-09T06:52:36Z</dcterms:modified>
  <cp:revision>4</cp:revision>
  <dc:subject/>
  <dc:title>第二十九章  甲状腺激素与                   抗甲状腺药</dc:title>
</cp:coreProperties>
</file>